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14B5-B96A-47FA-93D0-04020D236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47B0-43A6-469A-8418-7FAA06E6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8F46-3AAA-47F7-8FF4-1766808BE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FF8C-72C1-40FC-AFE5-6FFFAD36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A20B-E8DB-4A23-929F-944E091B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F2ED-1FC8-4614-9124-C042C996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0074-26D7-4D36-99B9-F68231E5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1B14-E511-40EC-893A-15B8F799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F7EB-2F6E-48EC-A280-86D20291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00F6-F29E-48DD-9F08-DC7EA505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158D-3597-4C93-ABF0-CA8CAEB8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23CC-3D9A-4E1B-8342-05CF1402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A562-BEB8-42A4-8E7A-EAF0AE832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hyperlink" Target="file:///tmp/home/.config/libreoffice/4/user/gallery/Breaking%20Glass" TargetMode="External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e- post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62120" y="2030400"/>
          <a:ext cx="7772400" cy="48276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poi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po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rod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rp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arning targe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iminate bias &amp; distor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ing conven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4038480" y="2666880"/>
            <a:ext cx="990720" cy="38124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6099" h="21600">
                <a:moveTo>
                  <a:pt x="0" y="0"/>
                </a:moveTo>
                <a:lnTo>
                  <a:pt x="56099" y="0"/>
                </a:lnTo>
                <a:lnTo>
                  <a:pt x="56099" y="21600"/>
                </a:lnTo>
                <a:lnTo>
                  <a:pt x="0" y="21600"/>
                </a:lnTo>
                <a:close/>
              </a:path>
              <a:path fill="lightenLess" w="56099" h="21600">
                <a:moveTo>
                  <a:pt x="0" y="0"/>
                </a:moveTo>
                <a:lnTo>
                  <a:pt x="56099" y="0"/>
                </a:lnTo>
                <a:lnTo>
                  <a:pt x="54699" y="1400"/>
                </a:lnTo>
                <a:lnTo>
                  <a:pt x="1400" y="1400"/>
                </a:lnTo>
                <a:close/>
              </a:path>
              <a:path fill="darken" w="56099" h="21600">
                <a:moveTo>
                  <a:pt x="56099" y="0"/>
                </a:moveTo>
                <a:lnTo>
                  <a:pt x="56099" y="21600"/>
                </a:lnTo>
                <a:lnTo>
                  <a:pt x="54699" y="20200"/>
                </a:lnTo>
                <a:lnTo>
                  <a:pt x="54699" y="1400"/>
                </a:lnTo>
                <a:close/>
              </a:path>
              <a:path fill="darkenLess" w="56099" h="21600">
                <a:moveTo>
                  <a:pt x="560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99" y="20200"/>
                </a:lnTo>
                <a:close/>
              </a:path>
              <a:path fill="lighten" w="560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327672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6f2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1"/>
          </p:cNvPr>
          <p:cNvSpPr/>
          <p:nvPr/>
        </p:nvSpPr>
        <p:spPr>
          <a:xfrm>
            <a:off x="4038480" y="3809880"/>
            <a:ext cx="990720" cy="38124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6099" h="21600">
                <a:moveTo>
                  <a:pt x="0" y="0"/>
                </a:moveTo>
                <a:lnTo>
                  <a:pt x="56099" y="0"/>
                </a:lnTo>
                <a:lnTo>
                  <a:pt x="56099" y="21600"/>
                </a:lnTo>
                <a:lnTo>
                  <a:pt x="0" y="21600"/>
                </a:lnTo>
                <a:close/>
              </a:path>
              <a:path fill="lightenLess" w="56099" h="21600">
                <a:moveTo>
                  <a:pt x="0" y="0"/>
                </a:moveTo>
                <a:lnTo>
                  <a:pt x="56099" y="0"/>
                </a:lnTo>
                <a:lnTo>
                  <a:pt x="54699" y="1400"/>
                </a:lnTo>
                <a:lnTo>
                  <a:pt x="1400" y="1400"/>
                </a:lnTo>
                <a:close/>
              </a:path>
              <a:path fill="darken" w="56099" h="21600">
                <a:moveTo>
                  <a:pt x="56099" y="0"/>
                </a:moveTo>
                <a:lnTo>
                  <a:pt x="56099" y="21600"/>
                </a:lnTo>
                <a:lnTo>
                  <a:pt x="54699" y="20200"/>
                </a:lnTo>
                <a:lnTo>
                  <a:pt x="54699" y="1400"/>
                </a:lnTo>
                <a:close/>
              </a:path>
              <a:path fill="darkenLess" w="56099" h="21600">
                <a:moveTo>
                  <a:pt x="560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99" y="20200"/>
                </a:lnTo>
                <a:close/>
              </a:path>
              <a:path fill="lighten" w="560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4b4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441972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5fb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5029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e9b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/>
          </p:cNvPr>
          <p:cNvSpPr/>
          <p:nvPr/>
        </p:nvSpPr>
        <p:spPr>
          <a:xfrm>
            <a:off x="4038480" y="57150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781680" y="2590920"/>
            <a:ext cx="522360" cy="466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781680" y="3200400"/>
            <a:ext cx="522360" cy="466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781680" y="3809880"/>
            <a:ext cx="522360" cy="466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6781680" y="4419720"/>
            <a:ext cx="522360" cy="466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6781680" y="4952880"/>
            <a:ext cx="522360" cy="466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6781680" y="5638680"/>
            <a:ext cx="5223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8520" y="1812960"/>
            <a:ext cx="835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ment over the course of the unit provides valu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that is needed to adjust my teaching methods. 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assessment will help me decide whether I need to alter any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essons to fit my students’ particular needs….  The summ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st) assessment will help me to evaluate both my instruc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nd myself as a teache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student’s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your perspec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7160" y="1812960"/>
            <a:ext cx="8357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ly, the assessment during my unit will show that I have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sitive impact on student learning which is required of 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s.  I should be able to illustrate progress toward and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chieving the learning targets by comparing the results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assessment with those of the post-assessment.  These resul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important to successful completion of the MiT program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lso important documentation that I will be able to produ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e hiring proces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student’s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your perspec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an external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c., as appropriat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"/>
          </p:cNvPr>
          <p:cNvSpPr/>
          <p:nvPr/>
        </p:nvSpPr>
        <p:spPr>
          <a:xfrm>
            <a:off x="533520" y="5486400"/>
            <a:ext cx="1143000" cy="11430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981080"/>
            <a:ext cx="7772400" cy="1828800"/>
          </a:xfrm>
          <a:prstGeom prst="rect">
            <a:avLst/>
          </a:prstGeom>
          <a:solidFill>
            <a:srgbClr val="e4b4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Tar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2240" y="2041560"/>
            <a:ext cx="763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targets are stated clearly and concisely and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ly categorized (fact, concept, skill, disposition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LRs are cited when appropriate.  (Reference the EALR/GLE right after the associated targe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76720" y="4343400"/>
            <a:ext cx="243828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b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Tar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1680" y="1736640"/>
            <a:ext cx="8465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will know the fundamental trigonometric ratios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ath 1.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do not have to list all fa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)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cept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will understand the applications of trig in a wide vari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occupations and fields of study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ath 5.3)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will be able to solve problems involving right tri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right triangle trigonometry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ath 2.1)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will begin to enjoy the problem solving proces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b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Tar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the targets clear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fy the targets correc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te associated EALRs with the targets when appropriat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/>
          </p:cNvPr>
          <p:cNvSpPr/>
          <p:nvPr/>
        </p:nvSpPr>
        <p:spPr>
          <a:xfrm>
            <a:off x="609480" y="5562720"/>
            <a:ext cx="1143000" cy="1066680"/>
          </a:xfrm>
          <a:custGeom>
            <a:avLst/>
            <a:gdLst>
              <a:gd name="textAreaLeft" fmla="*/ 69120 w 1143000"/>
              <a:gd name="textAreaRight" fmla="*/ 1073880 w 1143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3145" h="21600">
                <a:moveTo>
                  <a:pt x="0" y="0"/>
                </a:moveTo>
                <a:lnTo>
                  <a:pt x="23145" y="0"/>
                </a:lnTo>
                <a:lnTo>
                  <a:pt x="23145" y="21600"/>
                </a:lnTo>
                <a:lnTo>
                  <a:pt x="0" y="21600"/>
                </a:lnTo>
                <a:close/>
              </a:path>
              <a:path fill="lightenLess" w="23145" h="21600">
                <a:moveTo>
                  <a:pt x="0" y="0"/>
                </a:moveTo>
                <a:lnTo>
                  <a:pt x="23145" y="0"/>
                </a:lnTo>
                <a:lnTo>
                  <a:pt x="21745" y="1400"/>
                </a:lnTo>
                <a:lnTo>
                  <a:pt x="1400" y="1400"/>
                </a:lnTo>
                <a:close/>
              </a:path>
              <a:path fill="darken" w="23145" h="21600">
                <a:moveTo>
                  <a:pt x="23145" y="0"/>
                </a:moveTo>
                <a:lnTo>
                  <a:pt x="23145" y="21600"/>
                </a:lnTo>
                <a:lnTo>
                  <a:pt x="21745" y="20200"/>
                </a:lnTo>
                <a:lnTo>
                  <a:pt x="21745" y="1400"/>
                </a:lnTo>
                <a:close/>
              </a:path>
              <a:path fill="darkenLess" w="23145" h="21600">
                <a:moveTo>
                  <a:pt x="23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45" y="20200"/>
                </a:lnTo>
                <a:close/>
              </a:path>
              <a:path fill="lighten" w="23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45" h="21600">
                <a:moveTo>
                  <a:pt x="11572" y="3837"/>
                </a:moveTo>
                <a:lnTo>
                  <a:pt x="14149" y="6448"/>
                </a:lnTo>
                <a:lnTo>
                  <a:pt x="14149" y="4707"/>
                </a:lnTo>
                <a:lnTo>
                  <a:pt x="15924" y="4707"/>
                </a:lnTo>
                <a:lnTo>
                  <a:pt x="15924" y="8224"/>
                </a:lnTo>
                <a:lnTo>
                  <a:pt x="18535" y="10800"/>
                </a:lnTo>
                <a:lnTo>
                  <a:pt x="16882" y="10800"/>
                </a:lnTo>
                <a:lnTo>
                  <a:pt x="16882" y="17989"/>
                </a:lnTo>
                <a:lnTo>
                  <a:pt x="6263" y="17989"/>
                </a:lnTo>
                <a:lnTo>
                  <a:pt x="6263" y="10800"/>
                </a:lnTo>
                <a:lnTo>
                  <a:pt x="4610" y="10800"/>
                </a:lnTo>
                <a:close/>
              </a:path>
              <a:path fill="darkenLess" w="23145" h="21600">
                <a:moveTo>
                  <a:pt x="14149" y="6448"/>
                </a:moveTo>
                <a:lnTo>
                  <a:pt x="14149" y="4707"/>
                </a:lnTo>
                <a:lnTo>
                  <a:pt x="15924" y="4707"/>
                </a:lnTo>
                <a:lnTo>
                  <a:pt x="15924" y="8224"/>
                </a:lnTo>
                <a:close/>
              </a:path>
              <a:path fill="darkenLess" w="23145" h="21600">
                <a:moveTo>
                  <a:pt x="10650" y="14299"/>
                </a:moveTo>
                <a:lnTo>
                  <a:pt x="12495" y="14299"/>
                </a:lnTo>
                <a:lnTo>
                  <a:pt x="12495" y="17989"/>
                </a:lnTo>
                <a:lnTo>
                  <a:pt x="16882" y="17989"/>
                </a:lnTo>
                <a:lnTo>
                  <a:pt x="16882" y="10800"/>
                </a:lnTo>
                <a:lnTo>
                  <a:pt x="6263" y="10800"/>
                </a:lnTo>
                <a:lnTo>
                  <a:pt x="6263" y="17989"/>
                </a:lnTo>
                <a:lnTo>
                  <a:pt x="10650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1981080"/>
            <a:ext cx="8077320" cy="2133720"/>
          </a:xfrm>
          <a:prstGeom prst="rect">
            <a:avLst/>
          </a:prstGeom>
          <a:solidFill>
            <a:srgbClr val="b5fb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str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6120" y="2041560"/>
            <a:ext cx="795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ructure and contents of the pre- and post-unit assess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s are presented and justified.  Clear connection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to the nature of the learning targets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a Ch.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s are presented in this section or are included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ppendix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76720" y="4343400"/>
            <a:ext cx="243828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fb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str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98560" y="166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160" y="1736640"/>
            <a:ext cx="8338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-test and post-test for this unit are selected respons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 answer, and problem-solving (extended response) test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ype of assessment is very effective for fact targets (p.98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, selected response can be an effective way for stud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monstrate mastery of the knowledge required to perform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skills of the unit (p. 148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-test includes questions that are very similar to those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st-test.  However, there are fewer questions on the post-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y are slightly simpler.  The post-test contains m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s in order to sample a greater portion of the student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.  Both tests and their scoring guides can be found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ndix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fb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str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ructure and contents of the pre and post-assessment instr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1981080"/>
            <a:ext cx="77724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s a sufficiently thorough (yet concise!) description of the unit so as to allow an informed reader to make correct inferences about the unit’s context and inten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429000" y="4343400"/>
            <a:ext cx="234936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fb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str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166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1240" y="1736640"/>
            <a:ext cx="8006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have chosen to apply selected response and short essay as 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ment instruments for several reasons which includ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jority of my learning targets are focused on the maste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facts and concepts.  Therefore I am applying assess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s that are designed to measure these types of targe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accurately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fb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str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ructure and contents of the pre and post-assessment instr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ed and just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r connections are made to the nature of the learning target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1"/>
          </p:cNvPr>
          <p:cNvSpPr/>
          <p:nvPr/>
        </p:nvSpPr>
        <p:spPr>
          <a:xfrm>
            <a:off x="533520" y="5562720"/>
            <a:ext cx="1066680" cy="99036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3264" h="21600">
                <a:moveTo>
                  <a:pt x="0" y="0"/>
                </a:moveTo>
                <a:lnTo>
                  <a:pt x="23264" y="0"/>
                </a:lnTo>
                <a:lnTo>
                  <a:pt x="23264" y="21600"/>
                </a:lnTo>
                <a:lnTo>
                  <a:pt x="0" y="21600"/>
                </a:lnTo>
                <a:close/>
              </a:path>
              <a:path fill="lightenLess" w="23264" h="21600">
                <a:moveTo>
                  <a:pt x="0" y="0"/>
                </a:moveTo>
                <a:lnTo>
                  <a:pt x="23264" y="0"/>
                </a:lnTo>
                <a:lnTo>
                  <a:pt x="21864" y="1400"/>
                </a:lnTo>
                <a:lnTo>
                  <a:pt x="1400" y="1400"/>
                </a:lnTo>
                <a:close/>
              </a:path>
              <a:path fill="darken" w="23264" h="21600">
                <a:moveTo>
                  <a:pt x="23264" y="0"/>
                </a:moveTo>
                <a:lnTo>
                  <a:pt x="23264" y="21600"/>
                </a:lnTo>
                <a:lnTo>
                  <a:pt x="21864" y="20200"/>
                </a:lnTo>
                <a:lnTo>
                  <a:pt x="21864" y="1400"/>
                </a:lnTo>
                <a:close/>
              </a:path>
              <a:path fill="darkenLess" w="23264" h="21600">
                <a:moveTo>
                  <a:pt x="23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64" y="20200"/>
                </a:lnTo>
                <a:close/>
              </a:path>
              <a:path fill="lighten" w="23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64" h="21600">
                <a:moveTo>
                  <a:pt x="11632" y="3837"/>
                </a:moveTo>
                <a:lnTo>
                  <a:pt x="14208" y="6448"/>
                </a:lnTo>
                <a:lnTo>
                  <a:pt x="14208" y="4707"/>
                </a:lnTo>
                <a:lnTo>
                  <a:pt x="15984" y="4707"/>
                </a:lnTo>
                <a:lnTo>
                  <a:pt x="15984" y="8224"/>
                </a:lnTo>
                <a:lnTo>
                  <a:pt x="18595" y="10800"/>
                </a:lnTo>
                <a:lnTo>
                  <a:pt x="16941" y="10800"/>
                </a:lnTo>
                <a:lnTo>
                  <a:pt x="16941" y="17989"/>
                </a:lnTo>
                <a:lnTo>
                  <a:pt x="6323" y="17989"/>
                </a:lnTo>
                <a:lnTo>
                  <a:pt x="6323" y="10800"/>
                </a:lnTo>
                <a:lnTo>
                  <a:pt x="4669" y="10800"/>
                </a:lnTo>
                <a:close/>
              </a:path>
              <a:path fill="darkenLess" w="23264" h="21600">
                <a:moveTo>
                  <a:pt x="14208" y="6448"/>
                </a:moveTo>
                <a:lnTo>
                  <a:pt x="14208" y="4707"/>
                </a:lnTo>
                <a:lnTo>
                  <a:pt x="15984" y="4707"/>
                </a:lnTo>
                <a:lnTo>
                  <a:pt x="15984" y="8224"/>
                </a:lnTo>
                <a:close/>
              </a:path>
              <a:path fill="darkenLess" w="23264" h="21600">
                <a:moveTo>
                  <a:pt x="10709" y="14299"/>
                </a:moveTo>
                <a:lnTo>
                  <a:pt x="12555" y="14299"/>
                </a:lnTo>
                <a:lnTo>
                  <a:pt x="12555" y="17989"/>
                </a:lnTo>
                <a:lnTo>
                  <a:pt x="16941" y="17989"/>
                </a:lnTo>
                <a:lnTo>
                  <a:pt x="16941" y="10800"/>
                </a:lnTo>
                <a:lnTo>
                  <a:pt x="6323" y="10800"/>
                </a:lnTo>
                <a:lnTo>
                  <a:pt x="6323" y="17989"/>
                </a:lnTo>
                <a:lnTo>
                  <a:pt x="10709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1981080"/>
            <a:ext cx="8077320" cy="1143000"/>
          </a:xfrm>
          <a:prstGeom prst="rect">
            <a:avLst/>
          </a:prstGeom>
          <a:solidFill>
            <a:srgbClr val="fe9b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ing Bias &amp; Disto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6840" y="2041560"/>
            <a:ext cx="77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lear, well reasoned description of possible sources of b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is-measurement is offer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505320" y="4038480"/>
            <a:ext cx="234936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b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98560" y="166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3320" y="1654200"/>
            <a:ext cx="837684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with any assessment instrument, there are biases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ortions that must be considered as possible sourc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measurement.  Here are some that will be important in my un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roper Method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s the creator of the assessment instruments, 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e to ask myself if I properly matched the method of assess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my learning target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Clarity of Test Questions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The items on the assessments ma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be written clearly or well focused, thus leading the students t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swer incorrectly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Test Form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 Both tests use standard format items (multiple choic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rt answer, short essay).  Students who excel at other types 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ems may not do as well as they could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tc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ing Bias &amp; Disto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b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sources of mis-measurement are identified and explaine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ing Bias &amp; Disto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b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98560" y="166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4400" y="1654200"/>
            <a:ext cx="8306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biggest concern with using these 2 tools focuses on th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intelligence which they favor.  Students who are better verba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guistic learners may have an advantage in communicating v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media.  Other students with other types of intelligences m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be able to demonstrate their understanding as well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concern lies in my selection of the selected respon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s.  How do I know that the questions I’ve chosen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ve of the body of knowledge I have presented?  Po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 of questions may not appropriately emphasize the fac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s, and skill targets I have set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ing Bias &amp; Disto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b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sources of mis-measurement are identified and explaine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ing Bias &amp; Disto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1"/>
          </p:cNvPr>
          <p:cNvSpPr/>
          <p:nvPr/>
        </p:nvSpPr>
        <p:spPr>
          <a:xfrm>
            <a:off x="380880" y="5562720"/>
            <a:ext cx="1295640" cy="1066680"/>
          </a:xfrm>
          <a:custGeom>
            <a:avLst/>
            <a:gdLst>
              <a:gd name="textAreaLeft" fmla="*/ 69120 w 1295640"/>
              <a:gd name="textAreaRight" fmla="*/ 1226520 w 12956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35" h="21600">
                <a:moveTo>
                  <a:pt x="0" y="0"/>
                </a:moveTo>
                <a:lnTo>
                  <a:pt x="26235" y="0"/>
                </a:lnTo>
                <a:lnTo>
                  <a:pt x="26235" y="21600"/>
                </a:lnTo>
                <a:lnTo>
                  <a:pt x="0" y="21600"/>
                </a:lnTo>
                <a:close/>
              </a:path>
              <a:path fill="lightenLess" w="26235" h="21600">
                <a:moveTo>
                  <a:pt x="0" y="0"/>
                </a:moveTo>
                <a:lnTo>
                  <a:pt x="26235" y="0"/>
                </a:lnTo>
                <a:lnTo>
                  <a:pt x="24835" y="1400"/>
                </a:lnTo>
                <a:lnTo>
                  <a:pt x="1400" y="1400"/>
                </a:lnTo>
                <a:close/>
              </a:path>
              <a:path fill="darken" w="26235" h="21600">
                <a:moveTo>
                  <a:pt x="26235" y="0"/>
                </a:moveTo>
                <a:lnTo>
                  <a:pt x="26235" y="21600"/>
                </a:lnTo>
                <a:lnTo>
                  <a:pt x="24835" y="20200"/>
                </a:lnTo>
                <a:lnTo>
                  <a:pt x="24835" y="1400"/>
                </a:lnTo>
                <a:close/>
              </a:path>
              <a:path fill="darkenLess" w="26235" h="21600">
                <a:moveTo>
                  <a:pt x="26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5" y="20200"/>
                </a:lnTo>
                <a:close/>
              </a:path>
              <a:path fill="lighten" w="26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35" h="21600">
                <a:moveTo>
                  <a:pt x="13117" y="3837"/>
                </a:moveTo>
                <a:lnTo>
                  <a:pt x="15694" y="6448"/>
                </a:lnTo>
                <a:lnTo>
                  <a:pt x="15694" y="4707"/>
                </a:lnTo>
                <a:lnTo>
                  <a:pt x="17469" y="4707"/>
                </a:lnTo>
                <a:lnTo>
                  <a:pt x="17469" y="8224"/>
                </a:lnTo>
                <a:lnTo>
                  <a:pt x="20080" y="10800"/>
                </a:lnTo>
                <a:lnTo>
                  <a:pt x="18427" y="10800"/>
                </a:lnTo>
                <a:lnTo>
                  <a:pt x="18427" y="17989"/>
                </a:lnTo>
                <a:lnTo>
                  <a:pt x="7808" y="17989"/>
                </a:lnTo>
                <a:lnTo>
                  <a:pt x="7808" y="10800"/>
                </a:lnTo>
                <a:lnTo>
                  <a:pt x="6154" y="10800"/>
                </a:lnTo>
                <a:close/>
              </a:path>
              <a:path fill="darkenLess" w="26235" h="21600">
                <a:moveTo>
                  <a:pt x="15694" y="6448"/>
                </a:moveTo>
                <a:lnTo>
                  <a:pt x="15694" y="4707"/>
                </a:lnTo>
                <a:lnTo>
                  <a:pt x="17469" y="4707"/>
                </a:lnTo>
                <a:lnTo>
                  <a:pt x="17469" y="8224"/>
                </a:lnTo>
                <a:close/>
              </a:path>
              <a:path fill="darkenLess" w="26235" h="21600">
                <a:moveTo>
                  <a:pt x="12195" y="14299"/>
                </a:moveTo>
                <a:lnTo>
                  <a:pt x="14040" y="14299"/>
                </a:lnTo>
                <a:lnTo>
                  <a:pt x="14040" y="17989"/>
                </a:lnTo>
                <a:lnTo>
                  <a:pt x="18427" y="17989"/>
                </a:lnTo>
                <a:lnTo>
                  <a:pt x="18427" y="10800"/>
                </a:lnTo>
                <a:lnTo>
                  <a:pt x="7808" y="10800"/>
                </a:lnTo>
                <a:lnTo>
                  <a:pt x="7808" y="17989"/>
                </a:lnTo>
                <a:lnTo>
                  <a:pt x="12195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e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4200" y="1812960"/>
            <a:ext cx="797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 is a 9th grade World Geography course.  The Chi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comes at the end of the East Asia segment and is the la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 unit the students complete before the end of school. 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will run approximately four weeks.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e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e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4560" y="1812960"/>
            <a:ext cx="852300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ultimate goal for the unit is to bring to a close the litera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e of the class by closely examining the notion of the ‘Ameri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am’ and how it has changed throughout the eras.  I w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to cons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was the American Dream during Willy Loman’s tim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bout our notion of the American Dream has endurd through the yea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spects have changed over tim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y have they chang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can go wrong?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ant students to be able to compare their feelings to thos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in other historical periods we have been reading about….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e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tent (guiding objectiv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"/>
          </p:cNvPr>
          <p:cNvSpPr/>
          <p:nvPr/>
        </p:nvSpPr>
        <p:spPr>
          <a:xfrm>
            <a:off x="685800" y="556272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981080"/>
            <a:ext cx="7772400" cy="1676520"/>
          </a:xfrm>
          <a:prstGeom prst="rect">
            <a:avLst/>
          </a:prstGeom>
          <a:solidFill>
            <a:srgbClr val="f6f2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e assessment is clearly presented and discussed in light of the information presented in Chapter 2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76720" y="4191120"/>
            <a:ext cx="246384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7080" y="1812960"/>
            <a:ext cx="825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y students, the assessments are their opportun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how me what they have learned and where they need gui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e unit.  The pre-assessment gives them a chanc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nstrate their prior knowledge while the post-assess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s them summative information which allows them to tr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own succes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student’s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formation Technology</cp:lastModifiedBy>
  <dcterms:modified xsi:type="dcterms:W3CDTF">2008-02-26T18:03:13Z</dcterms:modified>
  <cp:revision>2</cp:revision>
  <dc:subject/>
  <dc:title>The pre- post assessment</dc:title>
</cp:coreProperties>
</file>